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4BA-3558-4231-A21E-D6108F8B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EB4-ABE8-41AF-A3A3-325D3E0A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0E8-5331-4874-8A60-697C7F77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5F27-7CAC-495D-BE37-449325D4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98BB-C1F0-4C99-9CFF-7F8EC7A2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0B13-A9BD-40CD-827E-AE329AEF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351-27FF-4C64-A47D-7447D842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B5DD-1A37-4F24-8613-DEB38443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07C-01C9-40D4-8E5B-C2C542C2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FA0-1FB2-4451-9A13-5E2CE726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33E-3040-4BDE-8D01-4EEEB532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4E93-3719-4C3F-BCAF-E4F5DF89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A834-3FD4-4B16-9A49-CEAB9575A0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ytuł 1"/>
          <p:cNvSpPr/>
          <p:nvPr/>
        </p:nvSpPr>
        <p:spPr>
          <a:xfrm>
            <a:off x="2357280" y="1785960"/>
            <a:ext cx="47149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ffff"/>
                </a:solidFill>
                <a:latin typeface="Calibri"/>
              </a:rPr>
              <a:t>Urządzenia elektrycz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ole tekstowe 6"/>
          <p:cNvSpPr/>
          <p:nvPr/>
        </p:nvSpPr>
        <p:spPr>
          <a:xfrm>
            <a:off x="2786040" y="52862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" descr="lodowka.bmp"/>
          <p:cNvPicPr/>
          <p:nvPr/>
        </p:nvPicPr>
        <p:blipFill>
          <a:blip r:embed="rId1"/>
          <a:stretch/>
        </p:blipFill>
        <p:spPr>
          <a:xfrm>
            <a:off x="3484440" y="1000080"/>
            <a:ext cx="21751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raz 2" descr="odkurzacz.bmp"/>
          <p:cNvPicPr/>
          <p:nvPr/>
        </p:nvPicPr>
        <p:blipFill>
          <a:blip r:embed="rId1"/>
          <a:stretch/>
        </p:blipFill>
        <p:spPr>
          <a:xfrm>
            <a:off x="2203560" y="1928880"/>
            <a:ext cx="47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raz 2" descr="żelazko.bmp"/>
          <p:cNvPicPr/>
          <p:nvPr/>
        </p:nvPicPr>
        <p:blipFill>
          <a:blip r:embed="rId1"/>
          <a:stretch/>
        </p:blipFill>
        <p:spPr>
          <a:xfrm>
            <a:off x="2909880" y="1857240"/>
            <a:ext cx="3324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raz 2" descr="pralka.bmp"/>
          <p:cNvPicPr/>
          <p:nvPr/>
        </p:nvPicPr>
        <p:blipFill>
          <a:blip r:embed="rId1"/>
          <a:stretch/>
        </p:blipFill>
        <p:spPr>
          <a:xfrm>
            <a:off x="2843280" y="1442880"/>
            <a:ext cx="3255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5:53:53Z</dcterms:created>
  <dc:creator>Grazyna</dc:creator>
  <dc:description/>
  <dc:language>en-US</dc:language>
  <cp:lastModifiedBy>Grazyna</cp:lastModifiedBy>
  <dcterms:modified xsi:type="dcterms:W3CDTF">2010-06-19T07:56:54Z</dcterms:modified>
  <cp:revision>13</cp:revision>
  <dc:subject/>
  <dc:title>Slajd 1</dc:title>
</cp:coreProperties>
</file>